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C8BA-1EEF-4D49-BE75-FE3FABD05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incessleia.com/Lamarck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racebioblog.blogspot.ca/2010/05/artificial-selection-good-or-ba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ackwellpublishing.com/ridley/tutorials/quantitative_genetics23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D5C-C084-418D-8DBA-D7CC4F78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CD9-EBD7-490A-86ED-554C0786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995-A151-4F97-BF15-FFBE178F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0F2-D159-4D40-BCAD-85488930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412-DD6A-4AEF-BADB-9E9AF1AF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5E6-1AAA-41D4-A347-8CD2E14F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393-1B25-4ECA-B64B-2E1DCBA2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AE2-ECBC-4220-9429-87486B42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A07-F624-4BD6-94A0-61F65576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3E5-2C81-499B-9EE5-7976EEE7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3F4-0ACA-47DD-BD25-C2DD6211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F5F-59E7-4E84-B927-4FF6666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961-8B16-4C17-93E6-77FF9C491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eory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5600" y="1981080"/>
            <a:ext cx="575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eritance of Acquire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ecies evolve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es evolves in response to its environment &amp; become better adapted to that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are passed on from generation to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fossils of organisms that are no longer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ossils of most living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sils are often found very deep below the Earth’s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sils are often found in unexpected lo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he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astroph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uvier) suggested that a series of catastrophes had caused widespread exti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ormitari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Lyell) suggested that geological changes are slow and gra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hange Over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o selectiv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duc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crease reproductiv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ng breeding (of animals, plants, etc.) for particular desirable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95680" y="2066760"/>
            <a:ext cx="4343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58960"/>
            <a:ext cx="77724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volution Of An Ide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long time people believed that all living things had been created in their present form and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 the 1700s many scientists began to question the immu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 of Chan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on wondered about the extra toes on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naeus &amp; Erasmus Darwin (Charles’ grandfather) proposed that living organisms must have changed over time, but had no explanation for th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13:12:05Z</dcterms:created>
  <dc:creator>rubina khan</dc:creator>
  <dc:description/>
  <dc:language>en-US</dc:language>
  <cp:lastModifiedBy>rubina khan</cp:lastModifiedBy>
  <dcterms:modified xsi:type="dcterms:W3CDTF">2014-11-13T18:15:38Z</dcterms:modified>
  <cp:revision>29</cp:revision>
  <dc:subject/>
  <dc:title>PowerPoint Presentation</dc:title>
</cp:coreProperties>
</file>